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0A209-E3BB-4E7D-84EA-313469C87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9E57A-EBC5-4AC6-AA48-68EBECBF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65B55-6751-45C6-B908-6FD44E6F0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4EADC7-A7A5-497F-A1EF-2DCE613D1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2E8FD-CD0B-437E-8BF2-28202829A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EC60D-CE9F-4CA3-9EFB-D4FE53D70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8C571-05C3-47AE-899B-8F35DFA283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19389-CC07-4600-ABE1-5D2397C6F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88FD2B-0EBF-4D6D-B3D5-DA063FB160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E0AC57-B00D-4E31-A787-8FA9FCC5AE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745367-AD20-4331-893E-692EFD874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43604D-3DD6-4019-AEAF-A024ADF30F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368E1-5057-4A8C-B95E-464CFE788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558EA-C75F-4632-A1C1-C8CC1A5CF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D68DA-C25F-487B-9D96-3AB8429567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17570-81B9-450C-8F5F-CDEDB666B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7C63F-F893-4B22-9B83-96DC4ECB2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00B2F-A9CF-4594-A16B-C69D296BDD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58BC8-93D6-43F7-94E1-625D645A4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08D6EB-E8F3-4C74-A297-FD4D90B26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4DFC9-01CF-4B23-A3DD-F5930902E8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935D7-F2C0-4342-9068-BBC05D2F1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00F48F-5B1C-473F-8E9E-DA542E8D34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8FE1B-6B9A-43E1-A2F9-DA528AA16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F40C03-7863-462F-9674-8B3130D986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39633D-D683-4279-A49F-48C128693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D0BB0-9F00-4DAC-8D2D-18FD71478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86BEE8-7FE7-4D1A-8F9B-1EF399A4B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B40773-645A-4D32-BD3C-2CCB2EEAF9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73CB3-324B-4BAA-83B9-F3779D679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BB9224-D343-4440-A83A-C542B27B5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681CD-E275-490A-958F-E969E33AF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54DF1-E49E-41C9-9C94-B70ED479A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FC854-BDE7-4F97-B395-23F268887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CBA24-5235-4E2C-AFFA-65F07E8D7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815EF9-0940-4751-8A20-66A141C7ED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8E3ACF-794C-4A80-A6E4-34A4CE41CD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AA023F-7484-4C53-A1B6-557A641841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FAC466-CC32-4067-AC80-C395C8B801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7E2E4E-859A-4956-AFE7-6F52E8CE37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DF306F-4977-4B94-8EE8-99E186F2EC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3AE2B0-EBA8-48B3-BF9C-EFD9424771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14B9D4-1259-415B-98A9-19854741C0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81FA6C-1D9B-4F4F-B5FE-285767E92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B8E99-C50C-470B-8E27-91D2B9A244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8CA322-625A-45E3-87DE-F6FD1D16BF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74535B-295B-45A3-A1FF-BA822FE439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348574-8E97-4C12-A613-6C06486714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F20766-FDB6-4AF6-BDA8-88A60DEB0F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58A332-A592-4C30-9AA4-8898B42F35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116E96-E40F-4AB6-B447-0BB0271BFD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3D1C7B-2E26-4335-BF24-9723AF0531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C20E52-32C7-4753-BD00-F892B59BA3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E45426-65F7-41AF-8017-C6B6FF107A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5EF747-B2C9-4374-802C-0041695A6C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886225-DABF-469B-8A86-5A0B195B28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F084A2-5CF6-4F7A-AAF1-7EACBFFE67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A1B879-C0BF-4A29-9D13-7548AD7FB9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EE8E02-E7D9-4DBB-9E74-E3AB27019A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6B08F3-882F-4889-8A95-4CFC0E7A04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EEAF13-2C08-4789-B06C-722D19E79C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FAE822-510E-4E15-94B4-971BC78296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DCD806-566C-45CD-8296-DDA5FF66B5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39AC97-33A5-4D6E-AB19-E05F6C6A1B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159167-253F-4A5A-879E-5C7FCD102F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C90034-F300-48A7-8F0A-0E243C5CB1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5EDEB7-462C-4A6C-A375-E653D4B676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49E2A7-BE31-4247-982C-2D9D98F4F0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F65392-3E90-48A0-8524-F2311B45F1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BD82F0-4BCA-4FFD-97CA-3D922C7811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B910EF-9D8E-4C09-A26C-12EEFE5BFC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0E7635-D944-464E-9657-91F6A026CB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BB9D7A-1847-49C9-8319-BE6D8AF213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381317-689A-4106-A33D-A32D0C72F2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9B1F8A-69A6-4235-A3B8-DB1E9FD6A5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40D351-3FD3-49C8-9B03-86505F753B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8315AC-9C05-4CD8-B211-DB6C4D2F55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76B447-0DA7-429F-91FE-F3D4EB7851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A57622-6463-4A81-A847-7513BDC483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56DD2E-0CFC-46ED-9ED5-31333E1D39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64C857-CFFD-446F-9A5C-9532909F5C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BE60E1-A24B-4F43-AFA7-85ACD16368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D0686C-6F44-4B92-9FDE-22170D5642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BE456B-BA0A-4A84-A99A-7F96F0AC73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5D0931-BE35-4576-975C-C616F9F4F39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D15474-A79B-4190-A183-AB3D5FB6FE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DC3B1B-2709-4242-8D24-B4BFF452F0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41D68D-67DD-4723-B819-03862F7731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A33EA4-AC95-49B1-95A9-EACF96B358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C65E63-8247-4053-85AF-953D382CC5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35B3E1-4C31-4FF3-8004-9D1B34F73D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97D87E-D169-4EE3-9942-F88E97E44B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A3A5E9-1019-4266-8C3D-8AE3DCE203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CDFAC2-7B66-4A23-88BC-68E7D41219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20A782-3D20-4BAC-AF56-7FB232D89C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1AC5EC-9176-4B4E-996C-16D0AD2528B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94F4F7C-0A37-4585-912A-4A2CCA799DD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0C0E104-CD3F-40CA-8C89-46CB151D36E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0C69C0-E351-4314-812D-9C20FD8830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D411EEB-CCA7-43F1-874F-95F39978F0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353CFC-11A4-43D2-B512-7A214BBBE7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35F7BB-A4C8-4BCB-8B9A-8CE365F741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D96241-CFF8-4BA7-8A1C-A44E251314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A23107-D25B-4D84-9B21-F79C5CA02C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F656-C466-49B3-8336-7DC0D38DB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CA0D8B-4CE1-4208-8A1C-492DBEB5FE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0537B7-FC2B-42AB-8644-3804AA2E6B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463295-45C5-465B-AED5-492C2B03F1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913D85-1AC4-441D-BC2A-0E13785126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56EAA17-DCE8-4157-926D-BAC6C0B10FA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3374E8-C925-4AB6-B399-49DAB4F755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D13C55-E0E6-4FA9-9C71-506B153C84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7FF14A-715F-4638-A1D4-D5BF323529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81A761-2C2F-4F58-A633-667AA9118F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0CF272-E300-4BE5-AEB9-A73D899744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18B200-C989-4624-8CC3-990BD4B1D6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097ECE-74D0-4D47-9C2E-E1FEEB750E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1F1541-874F-420C-8958-B439604EC4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FE39DD-7CED-41D4-9A12-F2E9835393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E91D521-C2B4-4456-B5C5-9585DB1EC1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B44A5B0-594B-4CA9-937E-C9462092BAE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019F2A-068C-45C0-ABFE-D6CB2A464FC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48D90AB-E297-423B-BC28-BADBFE54186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7A8B91-1C0F-47FB-8781-15C2C9003A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D737C6A-E5E6-4D16-BA2E-28F6B15E0D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C878C3-7736-442F-9E3B-39D9BA24FB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D60AE79-66BE-4F74-AD05-817381003D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38572C-F4B6-4B4F-AE6A-52D5486544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F48019-D871-4934-9C38-F11997E297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114595-8A2F-418A-BE6D-CFE4981562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200E25-7FA2-492A-9C83-D6AAA16182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0DD937-9226-422A-9311-D770257C11B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F6855F-4C28-4605-A274-705DD8C107B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2C9EC9F-00E6-4230-B2E9-6DE0C11E4CA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3A09420-78A4-4CE8-AE3D-889EDB7CEB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CBD734-C40E-4694-BDFF-8AFA218F14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540DD6D-5A89-4568-A73C-8A506C0F64A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388D107-5BE7-4EB4-BD05-0B92F12137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09DDD4-BA27-4C2D-A408-F65FE5DBE0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3F087E-B94F-4EA1-997E-7176776658B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BFC7A7-783D-426E-80AE-CC4C1B92FE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D88361-8971-49D5-A2AF-A49E4A5B03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C2A333-F12C-4ED4-A293-8368BB851A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146AD0-9238-42DE-9471-2115E38C84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D1962BB-7136-4D02-AE0F-60265FF99AD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DFEE85E-DA98-493C-A11B-4A29A8E8729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0504268-857A-4BDB-8C76-D9DCC3D4C8E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28EC43-781E-4EDA-8695-08A12902C3E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7F4FBB-50A0-4CF2-B726-7B177339E5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D29F888-07F5-415A-A757-B37C238CF2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A31719C-F6C9-4661-8E49-1F7A9313ADE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48DFE06-9223-4113-AE10-29771B9276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224E77-D521-4B69-89C1-3A16439A25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308DE0-96D9-445B-8EF7-E68E488044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50D2758-0461-489D-ABC3-F7A1D97FF3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8C45309-8538-45EE-BE39-3EE97FA3155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7B7CB89-B8E4-4BB6-AA49-035045B42E0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393ED04-C48C-4967-90BA-C8869790F70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9717B1-1B10-4F39-B22E-16D5AB916D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EC1BBD-C868-4F6E-A67F-EA82639F70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75159CF-EB53-4701-A223-921F5250F6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F68FCC-66EB-42E7-9F32-C164022C0F9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BEF2FE-EBA5-4528-865D-B9949C53841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B894A5-19E9-4949-AEFD-A5D7802021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788081-B621-4746-9227-A23CD95468B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9F5DC6-143E-426A-BE94-CD6D3817DA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E3493E-D2E6-4027-8DBE-3125FBFBD2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9DFC234-B39D-46A8-9183-5C1FFD2BFD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C1796B0-C89E-42B4-9259-0115B35189D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34CA71E-4476-4D23-BB6C-7C92413CD5B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B5B7D05-DE42-4C7B-AD4E-F27C9A8E408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5321334-81E4-4A85-B7C7-3FB2AE7F7D1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115C19-9D55-4BD0-9410-96B36FD8526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D69F24-A570-463B-9E28-8BEE4B8F9B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8927A3A-4F9C-4C93-A3A5-E81FBD111A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C756D43-6DE4-49C2-9E4F-BD674A4EFD5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5EF76D-3796-4608-92E0-3ED4E00289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F6830D-15A7-4006-858F-052AA8D064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067DC9-EFD3-4CEA-A004-55A66B8F5B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5DF6BF7-78A3-47ED-AF97-BF5BC98A3D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FEDCC53-0A21-4D03-B907-B93BA79D83F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B80A37D-ADAE-47F7-8A2E-8F50FCCC53E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B9818FC-99EE-499F-AECE-A740EF9BD0F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85922F-BC15-4778-AD13-9453D6ABF3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3ECE374-C698-4C31-9C56-DDEC2B2AF44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F315DD-8849-4FDC-BECF-B7459967819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874FBB1-C7D3-4AED-B8C9-B89E038D70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1917A76-B360-4F4D-8B10-38EFAFF43F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8EA5B0A-43C3-4FDE-99BD-C856AF391F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C79B17-CC49-4DD0-815A-E7802A5C66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4037B85-C394-4CAE-B47B-8B7114FCFB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3C2DCEA-754D-443E-836B-C5952672D3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EB642D4-1A99-4ED4-B134-F61338E2BAB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C207D0C-E946-4C32-8881-58A22F30E1D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01B1BAC-4E40-474E-A01E-F1A7D560F90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A0D858E-FE4A-4853-982D-95E7D5A114E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CB6B334-B041-4A43-B8FB-3B7A5A4A9E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F9DC569-6340-486B-9D48-2D7039DBD84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32B103-E3F0-4CF7-A3B6-4391B818F0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1369578-F311-49A4-A4C8-A6387BC62A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6DFB93C-25DA-41BF-9BAE-2B47B8E4D0E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622812-FC6F-4AEB-8BB0-5E1783706F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8A95BC3-5470-42C4-B890-B7AAF3AAD2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31ABC12-C4B1-48CC-A78A-E27E2806B9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49F0B22-5E88-44B9-85DE-EED81C92AB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CE134-2AAE-43CB-AAA7-DD1234810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BFF2CBE-F852-42D2-B47B-F9FC0CE3C59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932A8-2352-407B-81B2-5738250E8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88CDA-6C26-4D8C-823D-EA9E146D0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E4D49-4240-4E49-9E34-BE9146564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0D593-1737-46C0-A87C-3EEAFE007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2E84-395F-47A2-8E94-3BED25CDF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72664-D86E-4755-993B-7044F8099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91862-84DD-4D15-A8F6-E88BDB1C7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5113-80DB-4ECB-80FC-B61825046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48A70-E440-47AE-978E-9222E597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6320A-4ED7-4E39-BE1D-604ED86F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749CB-0819-432D-B1EA-9285A60B2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BB44A-A558-41BA-9827-E70DD9B65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E327-C596-4F5E-B183-E388C0B24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2A8751-8FD6-45E1-8207-2A46AF52D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9F61-CB7D-4E9A-9312-713CB0E7C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F67FA-DF4E-4DFE-87AC-CED129B93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CAD8B-296A-4B67-BBFD-88B1AB315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C1ABF-7823-4990-8651-D045A4BA1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F96DD-3B82-4785-A910-ED5233FC9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CE489-9960-4F4C-85A0-CC4A0DA89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D611B-B7E5-445D-87E6-B77AFF678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3ADF9-AB1F-4BF2-88DC-B960AD055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BF757-14F0-4DD8-881E-F54AEE1C7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1EC4A-11D8-480E-BDF9-5440CBB98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AFD3D-2ECB-4B82-B679-DF2DB910C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2A7B-D162-490F-8B39-07E0E4A3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17FD78-6564-450F-BACC-C133A98D9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2241AD-3A10-499E-B335-F8B3B27788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EEA84-DB45-4DAA-BB52-2E807BBA2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D7087-3C65-4998-B288-0C68BD51C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11CFA-E2C2-4103-8D57-22E6C8DEF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1F8A5-4258-414E-827B-CA425DADA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DBFCA-6962-42B4-AC88-5BE1C42F4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C6BBB-1FCE-4BAF-97C7-4489C2029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D392A-C13F-4955-A689-E62FAB1CA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8EC72-8D00-4782-B141-454C2F943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929C-53CC-4D75-A5D8-F50FD824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CDF19-80B6-432E-B95B-1C93841DC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9B273-29A0-407C-93EC-5D873CF913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7A9EF0-5A39-4C33-9794-C332E6265D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09A29-1845-4F18-BE7C-2B608B0D26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8D8B3-B9B6-4391-8AF1-2B135ADBF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ACE42-B412-4CED-91A6-FBC8219ED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3A53E-0D48-4E80-A74A-96F6E060A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88CD4-746C-431F-B1BA-45B052104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1D69F-1DDF-49E5-8CEB-814DD7651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ED8B3-6312-41BB-8023-D1D4F0AFB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A7D2-38BE-4484-84E9-5196E607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3AFB9-445E-4934-B2A4-239D878F6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12A32-FCA2-4FC3-9129-3930BCDFB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A198E-C2D5-4ECF-9954-6D19B27DA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5DB54C-3E85-4189-8674-5C9FC5F507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EA82D7-B0A7-464C-90AA-D5751BF8D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9399B7-46FD-4749-AB75-7ACB947270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69D05-56D9-46C6-81B4-E3B0944CC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8E757-51CA-4E86-BC18-657F867C7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53290-1DA6-4352-84FE-3015D2D702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0EE81-B6CA-4981-AFBF-165F64EAD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7945-612A-4BDE-81AF-27AB8A5EF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B05C6-6697-4B1C-9EE0-C71F26281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B00CC-AAEA-42C5-9E6A-F71AC07D7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841F2-52EF-45F0-ACD4-168CE73BE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760F2-162B-4152-B683-B2BDB8ED1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5A1E6-A34F-4464-969B-9D88117E7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FD502-9BC9-40CF-BCE7-56C09B8E6B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21CF74-B28C-4FB5-8672-6B4FEF45DF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3DE9E9-7EA4-4203-91E1-F3465650B8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CCAEA3-BC9B-4FDE-830D-651FA9F9B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ED43D-B294-416C-A4FC-D7BE980D995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E3D9-577F-4D4A-A026-3296551EC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3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3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3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3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4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4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4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43"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C822-F739-4198-967B-50D8A69732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8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8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8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8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8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8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8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90" name="PlaceHolder 1"/>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3"/>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246B-92D3-4F81-9054-7E837CF876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53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53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53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53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53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53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3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37"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CCFD-0039-4904-B114-EE276DF803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57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57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57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58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58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58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8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84" name="PlaceHolder 1"/>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2"/>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E836-8B8A-4143-A4C2-6C29767864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62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62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62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62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62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62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3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31"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3"/>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1A38-C23C-41AA-BD4E-7837D2FE30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671" name="CorrectBarGroup"/>
          <p:cNvGrpSpPr/>
          <p:nvPr/>
        </p:nvGrpSpPr>
        <p:grpSpPr>
          <a:xfrm>
            <a:off x="1270080" y="3174840"/>
            <a:ext cx="2666880" cy="2540160"/>
            <a:chOff x="1270080" y="3174840"/>
            <a:chExt cx="2666880" cy="2540160"/>
          </a:xfrm>
        </p:grpSpPr>
        <p:sp>
          <p:nvSpPr>
            <p:cNvPr id="67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PercentLabelGroup"/>
          <p:cNvGrpSpPr/>
          <p:nvPr/>
        </p:nvGrpSpPr>
        <p:grpSpPr>
          <a:xfrm>
            <a:off x="1270080" y="1270080"/>
            <a:ext cx="7429320" cy="317520"/>
            <a:chOff x="1270080" y="1270080"/>
            <a:chExt cx="7429320" cy="317520"/>
          </a:xfrm>
        </p:grpSpPr>
        <p:sp>
          <p:nvSpPr>
            <p:cNvPr id="67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67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67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67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67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680" name="IncorrectBarGroup"/>
          <p:cNvGrpSpPr/>
          <p:nvPr/>
        </p:nvGrpSpPr>
        <p:grpSpPr>
          <a:xfrm>
            <a:off x="4444920" y="1905120"/>
            <a:ext cx="4254480" cy="3809880"/>
            <a:chOff x="4444920" y="1905120"/>
            <a:chExt cx="4254480" cy="3809880"/>
          </a:xfrm>
        </p:grpSpPr>
        <p:sp>
          <p:nvSpPr>
            <p:cNvPr id="68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XLabelGroup"/>
          <p:cNvGrpSpPr/>
          <p:nvPr/>
        </p:nvGrpSpPr>
        <p:grpSpPr>
          <a:xfrm>
            <a:off x="1270080" y="5842080"/>
            <a:ext cx="7429320" cy="317520"/>
            <a:chOff x="1270080" y="5842080"/>
            <a:chExt cx="7429320" cy="317520"/>
          </a:xfrm>
        </p:grpSpPr>
        <p:sp>
          <p:nvSpPr>
            <p:cNvPr id="68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68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68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68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68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690" name="AxisLineGroup"/>
          <p:cNvGrpSpPr/>
          <p:nvPr/>
        </p:nvGrpSpPr>
        <p:grpSpPr>
          <a:xfrm>
            <a:off x="888840" y="1587600"/>
            <a:ext cx="8001000" cy="4127400"/>
            <a:chOff x="888840" y="1587600"/>
            <a:chExt cx="8001000" cy="4127400"/>
          </a:xfrm>
        </p:grpSpPr>
        <p:sp>
          <p:nvSpPr>
            <p:cNvPr id="69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YLabelGroup"/>
          <p:cNvGrpSpPr/>
          <p:nvPr/>
        </p:nvGrpSpPr>
        <p:grpSpPr>
          <a:xfrm>
            <a:off x="254160" y="1841400"/>
            <a:ext cx="761760" cy="3936960"/>
            <a:chOff x="254160" y="1841400"/>
            <a:chExt cx="761760" cy="3936960"/>
          </a:xfrm>
        </p:grpSpPr>
        <p:sp>
          <p:nvSpPr>
            <p:cNvPr id="69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69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70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702" name="PlaceHolder 1"/>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60A4-CED1-4526-B680-8BBBE42F47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742" name="CorrectBarGroup"/>
          <p:cNvGrpSpPr/>
          <p:nvPr/>
        </p:nvGrpSpPr>
        <p:grpSpPr>
          <a:xfrm>
            <a:off x="1270080" y="3174840"/>
            <a:ext cx="2666880" cy="2540160"/>
            <a:chOff x="1270080" y="3174840"/>
            <a:chExt cx="2666880" cy="2540160"/>
          </a:xfrm>
        </p:grpSpPr>
        <p:sp>
          <p:nvSpPr>
            <p:cNvPr id="74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PercentLabelGroup"/>
          <p:cNvGrpSpPr/>
          <p:nvPr/>
        </p:nvGrpSpPr>
        <p:grpSpPr>
          <a:xfrm>
            <a:off x="1270080" y="1270080"/>
            <a:ext cx="7429320" cy="317520"/>
            <a:chOff x="1270080" y="1270080"/>
            <a:chExt cx="7429320" cy="317520"/>
          </a:xfrm>
        </p:grpSpPr>
        <p:sp>
          <p:nvSpPr>
            <p:cNvPr id="74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74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74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4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5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751" name="IncorrectBarGroup"/>
          <p:cNvGrpSpPr/>
          <p:nvPr/>
        </p:nvGrpSpPr>
        <p:grpSpPr>
          <a:xfrm>
            <a:off x="4444920" y="1905120"/>
            <a:ext cx="4254480" cy="3809880"/>
            <a:chOff x="4444920" y="1905120"/>
            <a:chExt cx="4254480" cy="3809880"/>
          </a:xfrm>
        </p:grpSpPr>
        <p:sp>
          <p:nvSpPr>
            <p:cNvPr id="75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XLabelGroup"/>
          <p:cNvGrpSpPr/>
          <p:nvPr/>
        </p:nvGrpSpPr>
        <p:grpSpPr>
          <a:xfrm>
            <a:off x="1270080" y="5842080"/>
            <a:ext cx="7429320" cy="317520"/>
            <a:chOff x="1270080" y="5842080"/>
            <a:chExt cx="7429320" cy="317520"/>
          </a:xfrm>
        </p:grpSpPr>
        <p:sp>
          <p:nvSpPr>
            <p:cNvPr id="75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5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75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75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76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761" name="AxisLineGroup"/>
          <p:cNvGrpSpPr/>
          <p:nvPr/>
        </p:nvGrpSpPr>
        <p:grpSpPr>
          <a:xfrm>
            <a:off x="888840" y="1587600"/>
            <a:ext cx="8001000" cy="4127400"/>
            <a:chOff x="888840" y="1587600"/>
            <a:chExt cx="8001000" cy="4127400"/>
          </a:xfrm>
        </p:grpSpPr>
        <p:sp>
          <p:nvSpPr>
            <p:cNvPr id="762"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YLabelGroup"/>
          <p:cNvGrpSpPr/>
          <p:nvPr/>
        </p:nvGrpSpPr>
        <p:grpSpPr>
          <a:xfrm>
            <a:off x="254160" y="1841400"/>
            <a:ext cx="761760" cy="3936960"/>
            <a:chOff x="254160" y="1841400"/>
            <a:chExt cx="761760" cy="3936960"/>
          </a:xfrm>
        </p:grpSpPr>
        <p:sp>
          <p:nvSpPr>
            <p:cNvPr id="76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77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7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77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773" name="PlaceHolder 1"/>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PlaceHolder 2"/>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3"/>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4FD2-7088-4A99-8194-4AC412EE1C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13" name="CorrectBarGroup"/>
          <p:cNvGrpSpPr/>
          <p:nvPr/>
        </p:nvGrpSpPr>
        <p:grpSpPr>
          <a:xfrm>
            <a:off x="1270080" y="3174840"/>
            <a:ext cx="2666880" cy="2540160"/>
            <a:chOff x="1270080" y="3174840"/>
            <a:chExt cx="2666880" cy="2540160"/>
          </a:xfrm>
        </p:grpSpPr>
        <p:sp>
          <p:nvSpPr>
            <p:cNvPr id="81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PercentLabelGroup"/>
          <p:cNvGrpSpPr/>
          <p:nvPr/>
        </p:nvGrpSpPr>
        <p:grpSpPr>
          <a:xfrm>
            <a:off x="1270080" y="1270080"/>
            <a:ext cx="7429320" cy="317520"/>
            <a:chOff x="1270080" y="1270080"/>
            <a:chExt cx="7429320" cy="317520"/>
          </a:xfrm>
        </p:grpSpPr>
        <p:sp>
          <p:nvSpPr>
            <p:cNvPr id="81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1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1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2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2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22" name="IncorrectBarGroup"/>
          <p:cNvGrpSpPr/>
          <p:nvPr/>
        </p:nvGrpSpPr>
        <p:grpSpPr>
          <a:xfrm>
            <a:off x="4444920" y="1905120"/>
            <a:ext cx="4254480" cy="3809880"/>
            <a:chOff x="4444920" y="1905120"/>
            <a:chExt cx="4254480" cy="3809880"/>
          </a:xfrm>
        </p:grpSpPr>
        <p:sp>
          <p:nvSpPr>
            <p:cNvPr id="82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XLabelGroup"/>
          <p:cNvGrpSpPr/>
          <p:nvPr/>
        </p:nvGrpSpPr>
        <p:grpSpPr>
          <a:xfrm>
            <a:off x="1270080" y="5842080"/>
            <a:ext cx="7429320" cy="317520"/>
            <a:chOff x="1270080" y="5842080"/>
            <a:chExt cx="7429320" cy="317520"/>
          </a:xfrm>
        </p:grpSpPr>
        <p:sp>
          <p:nvSpPr>
            <p:cNvPr id="82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2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82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3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3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32" name="AxisLineGroup"/>
          <p:cNvGrpSpPr/>
          <p:nvPr/>
        </p:nvGrpSpPr>
        <p:grpSpPr>
          <a:xfrm>
            <a:off x="888840" y="1587600"/>
            <a:ext cx="8001000" cy="4127400"/>
            <a:chOff x="888840" y="1587600"/>
            <a:chExt cx="8001000" cy="4127400"/>
          </a:xfrm>
        </p:grpSpPr>
        <p:sp>
          <p:nvSpPr>
            <p:cNvPr id="83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YLabelGroup"/>
          <p:cNvGrpSpPr/>
          <p:nvPr/>
        </p:nvGrpSpPr>
        <p:grpSpPr>
          <a:xfrm>
            <a:off x="254160" y="1841400"/>
            <a:ext cx="761760" cy="3936960"/>
            <a:chOff x="254160" y="1841400"/>
            <a:chExt cx="761760" cy="3936960"/>
          </a:xfrm>
        </p:grpSpPr>
        <p:sp>
          <p:nvSpPr>
            <p:cNvPr id="84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4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4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4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44" name="PlaceHolder 1"/>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2"/>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3"/>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18B8-E4C4-4093-B55B-B9D84D9C2F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84" name="CorrectBarGroup"/>
          <p:cNvGrpSpPr/>
          <p:nvPr/>
        </p:nvGrpSpPr>
        <p:grpSpPr>
          <a:xfrm>
            <a:off x="1270080" y="3174840"/>
            <a:ext cx="2666880" cy="2540160"/>
            <a:chOff x="1270080" y="3174840"/>
            <a:chExt cx="2666880" cy="2540160"/>
          </a:xfrm>
        </p:grpSpPr>
        <p:sp>
          <p:nvSpPr>
            <p:cNvPr id="88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PercentLabelGroup"/>
          <p:cNvGrpSpPr/>
          <p:nvPr/>
        </p:nvGrpSpPr>
        <p:grpSpPr>
          <a:xfrm>
            <a:off x="1270080" y="1270080"/>
            <a:ext cx="7429320" cy="317520"/>
            <a:chOff x="1270080" y="1270080"/>
            <a:chExt cx="7429320" cy="317520"/>
          </a:xfrm>
        </p:grpSpPr>
        <p:sp>
          <p:nvSpPr>
            <p:cNvPr id="88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8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9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9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9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93" name="IncorrectBarGroup"/>
          <p:cNvGrpSpPr/>
          <p:nvPr/>
        </p:nvGrpSpPr>
        <p:grpSpPr>
          <a:xfrm>
            <a:off x="4444920" y="1905120"/>
            <a:ext cx="4254480" cy="3809880"/>
            <a:chOff x="4444920" y="1905120"/>
            <a:chExt cx="4254480" cy="3809880"/>
          </a:xfrm>
        </p:grpSpPr>
        <p:sp>
          <p:nvSpPr>
            <p:cNvPr id="89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7" name="XLabelGroup"/>
          <p:cNvGrpSpPr/>
          <p:nvPr/>
        </p:nvGrpSpPr>
        <p:grpSpPr>
          <a:xfrm>
            <a:off x="1270080" y="5842080"/>
            <a:ext cx="7429320" cy="317520"/>
            <a:chOff x="1270080" y="5842080"/>
            <a:chExt cx="7429320" cy="317520"/>
          </a:xfrm>
        </p:grpSpPr>
        <p:sp>
          <p:nvSpPr>
            <p:cNvPr id="89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9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0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0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0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03" name="AxisLineGroup"/>
          <p:cNvGrpSpPr/>
          <p:nvPr/>
        </p:nvGrpSpPr>
        <p:grpSpPr>
          <a:xfrm>
            <a:off x="888840" y="1587600"/>
            <a:ext cx="8001000" cy="4127400"/>
            <a:chOff x="888840" y="1587600"/>
            <a:chExt cx="8001000" cy="4127400"/>
          </a:xfrm>
        </p:grpSpPr>
        <p:sp>
          <p:nvSpPr>
            <p:cNvPr id="90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0" name="YLabelGroup"/>
          <p:cNvGrpSpPr/>
          <p:nvPr/>
        </p:nvGrpSpPr>
        <p:grpSpPr>
          <a:xfrm>
            <a:off x="254160" y="1841400"/>
            <a:ext cx="761760" cy="3936960"/>
            <a:chOff x="254160" y="1841400"/>
            <a:chExt cx="761760" cy="3936960"/>
          </a:xfrm>
        </p:grpSpPr>
        <p:sp>
          <p:nvSpPr>
            <p:cNvPr id="91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1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1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1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15" name="PlaceHolder 1"/>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PlaceHolder 2"/>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3"/>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195D-01FA-43C6-8D45-E2463F5AFD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955" name="CorrectBarGroup"/>
          <p:cNvGrpSpPr/>
          <p:nvPr/>
        </p:nvGrpSpPr>
        <p:grpSpPr>
          <a:xfrm>
            <a:off x="1270080" y="3174840"/>
            <a:ext cx="2666880" cy="2540160"/>
            <a:chOff x="1270080" y="3174840"/>
            <a:chExt cx="2666880" cy="2540160"/>
          </a:xfrm>
        </p:grpSpPr>
        <p:sp>
          <p:nvSpPr>
            <p:cNvPr id="95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8" name="PercentLabelGroup"/>
          <p:cNvGrpSpPr/>
          <p:nvPr/>
        </p:nvGrpSpPr>
        <p:grpSpPr>
          <a:xfrm>
            <a:off x="1270080" y="1270080"/>
            <a:ext cx="7429320" cy="317520"/>
            <a:chOff x="1270080" y="1270080"/>
            <a:chExt cx="7429320" cy="317520"/>
          </a:xfrm>
        </p:grpSpPr>
        <p:sp>
          <p:nvSpPr>
            <p:cNvPr id="95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6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6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6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6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64" name="IncorrectBarGroup"/>
          <p:cNvGrpSpPr/>
          <p:nvPr/>
        </p:nvGrpSpPr>
        <p:grpSpPr>
          <a:xfrm>
            <a:off x="4444920" y="1905120"/>
            <a:ext cx="4254480" cy="3809880"/>
            <a:chOff x="4444920" y="1905120"/>
            <a:chExt cx="4254480" cy="3809880"/>
          </a:xfrm>
        </p:grpSpPr>
        <p:sp>
          <p:nvSpPr>
            <p:cNvPr id="96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8" name="XLabelGroup"/>
          <p:cNvGrpSpPr/>
          <p:nvPr/>
        </p:nvGrpSpPr>
        <p:grpSpPr>
          <a:xfrm>
            <a:off x="1270080" y="5842080"/>
            <a:ext cx="7429320" cy="317520"/>
            <a:chOff x="1270080" y="5842080"/>
            <a:chExt cx="7429320" cy="317520"/>
          </a:xfrm>
        </p:grpSpPr>
        <p:sp>
          <p:nvSpPr>
            <p:cNvPr id="96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97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7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7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7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74" name="AxisLineGroup"/>
          <p:cNvGrpSpPr/>
          <p:nvPr/>
        </p:nvGrpSpPr>
        <p:grpSpPr>
          <a:xfrm>
            <a:off x="888840" y="1587600"/>
            <a:ext cx="8001000" cy="4127400"/>
            <a:chOff x="888840" y="1587600"/>
            <a:chExt cx="8001000" cy="4127400"/>
          </a:xfrm>
        </p:grpSpPr>
        <p:sp>
          <p:nvSpPr>
            <p:cNvPr id="975"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YLabelGroup"/>
          <p:cNvGrpSpPr/>
          <p:nvPr/>
        </p:nvGrpSpPr>
        <p:grpSpPr>
          <a:xfrm>
            <a:off x="254160" y="1841400"/>
            <a:ext cx="761760" cy="3936960"/>
            <a:chOff x="254160" y="1841400"/>
            <a:chExt cx="761760" cy="3936960"/>
          </a:xfrm>
        </p:grpSpPr>
        <p:sp>
          <p:nvSpPr>
            <p:cNvPr id="98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8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8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8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86" name="PlaceHolder 1"/>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3D95-5F52-4667-8CFB-545E3B6976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026" name="CorrectBarGroup"/>
          <p:cNvGrpSpPr/>
          <p:nvPr/>
        </p:nvGrpSpPr>
        <p:grpSpPr>
          <a:xfrm>
            <a:off x="1270080" y="3174840"/>
            <a:ext cx="2666880" cy="2540160"/>
            <a:chOff x="1270080" y="3174840"/>
            <a:chExt cx="2666880" cy="2540160"/>
          </a:xfrm>
        </p:grpSpPr>
        <p:sp>
          <p:nvSpPr>
            <p:cNvPr id="102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PercentLabelGroup"/>
          <p:cNvGrpSpPr/>
          <p:nvPr/>
        </p:nvGrpSpPr>
        <p:grpSpPr>
          <a:xfrm>
            <a:off x="1270080" y="1270080"/>
            <a:ext cx="7429320" cy="317520"/>
            <a:chOff x="1270080" y="1270080"/>
            <a:chExt cx="7429320" cy="317520"/>
          </a:xfrm>
        </p:grpSpPr>
        <p:sp>
          <p:nvSpPr>
            <p:cNvPr id="103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03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03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3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3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035" name="IncorrectBarGroup"/>
          <p:cNvGrpSpPr/>
          <p:nvPr/>
        </p:nvGrpSpPr>
        <p:grpSpPr>
          <a:xfrm>
            <a:off x="4444920" y="1905120"/>
            <a:ext cx="4254480" cy="3809880"/>
            <a:chOff x="4444920" y="1905120"/>
            <a:chExt cx="4254480" cy="3809880"/>
          </a:xfrm>
        </p:grpSpPr>
        <p:sp>
          <p:nvSpPr>
            <p:cNvPr id="103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9" name="XLabelGroup"/>
          <p:cNvGrpSpPr/>
          <p:nvPr/>
        </p:nvGrpSpPr>
        <p:grpSpPr>
          <a:xfrm>
            <a:off x="1270080" y="5842080"/>
            <a:ext cx="7429320" cy="317520"/>
            <a:chOff x="1270080" y="5842080"/>
            <a:chExt cx="7429320" cy="317520"/>
          </a:xfrm>
        </p:grpSpPr>
        <p:sp>
          <p:nvSpPr>
            <p:cNvPr id="104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4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4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4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4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45" name="AxisLineGroup"/>
          <p:cNvGrpSpPr/>
          <p:nvPr/>
        </p:nvGrpSpPr>
        <p:grpSpPr>
          <a:xfrm>
            <a:off x="888840" y="1587600"/>
            <a:ext cx="8001000" cy="4127400"/>
            <a:chOff x="888840" y="1587600"/>
            <a:chExt cx="8001000" cy="4127400"/>
          </a:xfrm>
        </p:grpSpPr>
        <p:sp>
          <p:nvSpPr>
            <p:cNvPr id="104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YLabelGroup"/>
          <p:cNvGrpSpPr/>
          <p:nvPr/>
        </p:nvGrpSpPr>
        <p:grpSpPr>
          <a:xfrm>
            <a:off x="254160" y="1841400"/>
            <a:ext cx="761760" cy="3936960"/>
            <a:chOff x="254160" y="1841400"/>
            <a:chExt cx="761760" cy="3936960"/>
          </a:xfrm>
        </p:grpSpPr>
        <p:sp>
          <p:nvSpPr>
            <p:cNvPr id="105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05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05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05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057" name="PlaceHolder 1"/>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3"/>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5A67-4CE4-411A-A9B3-84174DE81D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097" name="CorrectBarGroup"/>
          <p:cNvGrpSpPr/>
          <p:nvPr/>
        </p:nvGrpSpPr>
        <p:grpSpPr>
          <a:xfrm>
            <a:off x="1270080" y="3174840"/>
            <a:ext cx="2666880" cy="2540160"/>
            <a:chOff x="1270080" y="3174840"/>
            <a:chExt cx="2666880" cy="2540160"/>
          </a:xfrm>
        </p:grpSpPr>
        <p:sp>
          <p:nvSpPr>
            <p:cNvPr id="10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PercentLabelGroup"/>
          <p:cNvGrpSpPr/>
          <p:nvPr/>
        </p:nvGrpSpPr>
        <p:grpSpPr>
          <a:xfrm>
            <a:off x="1270080" y="1270080"/>
            <a:ext cx="7429320" cy="317520"/>
            <a:chOff x="1270080" y="1270080"/>
            <a:chExt cx="7429320" cy="317520"/>
          </a:xfrm>
        </p:grpSpPr>
        <p:sp>
          <p:nvSpPr>
            <p:cNvPr id="11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06" name="IncorrectBarGroup"/>
          <p:cNvGrpSpPr/>
          <p:nvPr/>
        </p:nvGrpSpPr>
        <p:grpSpPr>
          <a:xfrm>
            <a:off x="4444920" y="1905120"/>
            <a:ext cx="4254480" cy="3809880"/>
            <a:chOff x="4444920" y="1905120"/>
            <a:chExt cx="4254480" cy="3809880"/>
          </a:xfrm>
        </p:grpSpPr>
        <p:sp>
          <p:nvSpPr>
            <p:cNvPr id="11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XLabelGroup"/>
          <p:cNvGrpSpPr/>
          <p:nvPr/>
        </p:nvGrpSpPr>
        <p:grpSpPr>
          <a:xfrm>
            <a:off x="1270080" y="5842080"/>
            <a:ext cx="7429320" cy="317520"/>
            <a:chOff x="1270080" y="5842080"/>
            <a:chExt cx="7429320" cy="317520"/>
          </a:xfrm>
        </p:grpSpPr>
        <p:sp>
          <p:nvSpPr>
            <p:cNvPr id="11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16" name="AxisLineGroup"/>
          <p:cNvGrpSpPr/>
          <p:nvPr/>
        </p:nvGrpSpPr>
        <p:grpSpPr>
          <a:xfrm>
            <a:off x="888840" y="1587600"/>
            <a:ext cx="8001000" cy="4127400"/>
            <a:chOff x="888840" y="1587600"/>
            <a:chExt cx="8001000" cy="4127400"/>
          </a:xfrm>
        </p:grpSpPr>
        <p:sp>
          <p:nvSpPr>
            <p:cNvPr id="111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YLabelGroup"/>
          <p:cNvGrpSpPr/>
          <p:nvPr/>
        </p:nvGrpSpPr>
        <p:grpSpPr>
          <a:xfrm>
            <a:off x="254160" y="1841400"/>
            <a:ext cx="761760" cy="3936960"/>
            <a:chOff x="254160" y="1841400"/>
            <a:chExt cx="761760" cy="3936960"/>
          </a:xfrm>
        </p:grpSpPr>
        <p:sp>
          <p:nvSpPr>
            <p:cNvPr id="11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28" name="PlaceHolder 1"/>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3"/>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123E-28FA-4BA9-A5C3-C39C2F83D0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168" name="CorrectBarGroup"/>
          <p:cNvGrpSpPr/>
          <p:nvPr/>
        </p:nvGrpSpPr>
        <p:grpSpPr>
          <a:xfrm>
            <a:off x="1270080" y="3174840"/>
            <a:ext cx="2666880" cy="2540160"/>
            <a:chOff x="1270080" y="3174840"/>
            <a:chExt cx="2666880" cy="2540160"/>
          </a:xfrm>
        </p:grpSpPr>
        <p:sp>
          <p:nvSpPr>
            <p:cNvPr id="116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PercentLabelGroup"/>
          <p:cNvGrpSpPr/>
          <p:nvPr/>
        </p:nvGrpSpPr>
        <p:grpSpPr>
          <a:xfrm>
            <a:off x="1270080" y="1270080"/>
            <a:ext cx="7429320" cy="317520"/>
            <a:chOff x="1270080" y="1270080"/>
            <a:chExt cx="7429320" cy="317520"/>
          </a:xfrm>
        </p:grpSpPr>
        <p:sp>
          <p:nvSpPr>
            <p:cNvPr id="117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7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7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77" name="IncorrectBarGroup"/>
          <p:cNvGrpSpPr/>
          <p:nvPr/>
        </p:nvGrpSpPr>
        <p:grpSpPr>
          <a:xfrm>
            <a:off x="4444920" y="1905120"/>
            <a:ext cx="4254480" cy="3809880"/>
            <a:chOff x="4444920" y="1905120"/>
            <a:chExt cx="4254480" cy="3809880"/>
          </a:xfrm>
        </p:grpSpPr>
        <p:sp>
          <p:nvSpPr>
            <p:cNvPr id="117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1" name="XLabelGroup"/>
          <p:cNvGrpSpPr/>
          <p:nvPr/>
        </p:nvGrpSpPr>
        <p:grpSpPr>
          <a:xfrm>
            <a:off x="1270080" y="5842080"/>
            <a:ext cx="7429320" cy="317520"/>
            <a:chOff x="1270080" y="5842080"/>
            <a:chExt cx="7429320" cy="317520"/>
          </a:xfrm>
        </p:grpSpPr>
        <p:sp>
          <p:nvSpPr>
            <p:cNvPr id="118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8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8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8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8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87" name="AxisLineGroup"/>
          <p:cNvGrpSpPr/>
          <p:nvPr/>
        </p:nvGrpSpPr>
        <p:grpSpPr>
          <a:xfrm>
            <a:off x="888840" y="1587600"/>
            <a:ext cx="8001000" cy="4127400"/>
            <a:chOff x="888840" y="1587600"/>
            <a:chExt cx="8001000" cy="4127400"/>
          </a:xfrm>
        </p:grpSpPr>
        <p:sp>
          <p:nvSpPr>
            <p:cNvPr id="1188"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4" name="YLabelGroup"/>
          <p:cNvGrpSpPr/>
          <p:nvPr/>
        </p:nvGrpSpPr>
        <p:grpSpPr>
          <a:xfrm>
            <a:off x="254160" y="1841400"/>
            <a:ext cx="761760" cy="3936960"/>
            <a:chOff x="254160" y="1841400"/>
            <a:chExt cx="761760" cy="3936960"/>
          </a:xfrm>
        </p:grpSpPr>
        <p:sp>
          <p:nvSpPr>
            <p:cNvPr id="119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9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9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9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99" name="PlaceHolder 1"/>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2"/>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PlaceHolder 3"/>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99D7-7E88-4A13-9D67-B7FB8720A1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239" name="CorrectBarGroup"/>
          <p:cNvGrpSpPr/>
          <p:nvPr/>
        </p:nvGrpSpPr>
        <p:grpSpPr>
          <a:xfrm>
            <a:off x="1270080" y="3174840"/>
            <a:ext cx="2666880" cy="2540160"/>
            <a:chOff x="1270080" y="3174840"/>
            <a:chExt cx="2666880" cy="2540160"/>
          </a:xfrm>
        </p:grpSpPr>
        <p:sp>
          <p:nvSpPr>
            <p:cNvPr id="124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PercentLabelGroup"/>
          <p:cNvGrpSpPr/>
          <p:nvPr/>
        </p:nvGrpSpPr>
        <p:grpSpPr>
          <a:xfrm>
            <a:off x="1270080" y="1270080"/>
            <a:ext cx="7429320" cy="317520"/>
            <a:chOff x="1270080" y="1270080"/>
            <a:chExt cx="7429320" cy="317520"/>
          </a:xfrm>
        </p:grpSpPr>
        <p:sp>
          <p:nvSpPr>
            <p:cNvPr id="124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24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24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4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4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248" name="IncorrectBarGroup"/>
          <p:cNvGrpSpPr/>
          <p:nvPr/>
        </p:nvGrpSpPr>
        <p:grpSpPr>
          <a:xfrm>
            <a:off x="4444920" y="1905120"/>
            <a:ext cx="4254480" cy="3809880"/>
            <a:chOff x="4444920" y="1905120"/>
            <a:chExt cx="4254480" cy="3809880"/>
          </a:xfrm>
        </p:grpSpPr>
        <p:sp>
          <p:nvSpPr>
            <p:cNvPr id="124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2" name="XLabelGroup"/>
          <p:cNvGrpSpPr/>
          <p:nvPr/>
        </p:nvGrpSpPr>
        <p:grpSpPr>
          <a:xfrm>
            <a:off x="1270080" y="5842080"/>
            <a:ext cx="7429320" cy="317520"/>
            <a:chOff x="1270080" y="5842080"/>
            <a:chExt cx="7429320" cy="317520"/>
          </a:xfrm>
        </p:grpSpPr>
        <p:sp>
          <p:nvSpPr>
            <p:cNvPr id="125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5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5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5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5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58" name="AxisLineGroup"/>
          <p:cNvGrpSpPr/>
          <p:nvPr/>
        </p:nvGrpSpPr>
        <p:grpSpPr>
          <a:xfrm>
            <a:off x="888840" y="1587600"/>
            <a:ext cx="8001000" cy="4127400"/>
            <a:chOff x="888840" y="1587600"/>
            <a:chExt cx="8001000" cy="4127400"/>
          </a:xfrm>
        </p:grpSpPr>
        <p:sp>
          <p:nvSpPr>
            <p:cNvPr id="1259"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YLabelGroup"/>
          <p:cNvGrpSpPr/>
          <p:nvPr/>
        </p:nvGrpSpPr>
        <p:grpSpPr>
          <a:xfrm>
            <a:off x="254160" y="1841400"/>
            <a:ext cx="761760" cy="3936960"/>
            <a:chOff x="254160" y="1841400"/>
            <a:chExt cx="761760" cy="3936960"/>
          </a:xfrm>
        </p:grpSpPr>
        <p:sp>
          <p:nvSpPr>
            <p:cNvPr id="126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6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6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6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70" name="PlaceHolder 1"/>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2"/>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3"/>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0DDE-2DAE-48AC-B56F-C0936ADC4E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310" name="CorrectBarGroup"/>
          <p:cNvGrpSpPr/>
          <p:nvPr/>
        </p:nvGrpSpPr>
        <p:grpSpPr>
          <a:xfrm>
            <a:off x="1270080" y="3174840"/>
            <a:ext cx="2666880" cy="2540160"/>
            <a:chOff x="1270080" y="3174840"/>
            <a:chExt cx="2666880" cy="2540160"/>
          </a:xfrm>
        </p:grpSpPr>
        <p:sp>
          <p:nvSpPr>
            <p:cNvPr id="131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PercentLabelGroup"/>
          <p:cNvGrpSpPr/>
          <p:nvPr/>
        </p:nvGrpSpPr>
        <p:grpSpPr>
          <a:xfrm>
            <a:off x="1270080" y="1270080"/>
            <a:ext cx="7429320" cy="317520"/>
            <a:chOff x="1270080" y="1270080"/>
            <a:chExt cx="7429320" cy="317520"/>
          </a:xfrm>
        </p:grpSpPr>
        <p:sp>
          <p:nvSpPr>
            <p:cNvPr id="131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1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1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1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1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19" name="IncorrectBarGroup"/>
          <p:cNvGrpSpPr/>
          <p:nvPr/>
        </p:nvGrpSpPr>
        <p:grpSpPr>
          <a:xfrm>
            <a:off x="4444920" y="1905120"/>
            <a:ext cx="4254480" cy="3809880"/>
            <a:chOff x="4444920" y="1905120"/>
            <a:chExt cx="4254480" cy="3809880"/>
          </a:xfrm>
        </p:grpSpPr>
        <p:sp>
          <p:nvSpPr>
            <p:cNvPr id="132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XLabelGroup"/>
          <p:cNvGrpSpPr/>
          <p:nvPr/>
        </p:nvGrpSpPr>
        <p:grpSpPr>
          <a:xfrm>
            <a:off x="1270080" y="5842080"/>
            <a:ext cx="7429320" cy="317520"/>
            <a:chOff x="1270080" y="5842080"/>
            <a:chExt cx="7429320" cy="317520"/>
          </a:xfrm>
        </p:grpSpPr>
        <p:sp>
          <p:nvSpPr>
            <p:cNvPr id="132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2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2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2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2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329" name="AxisLineGroup"/>
          <p:cNvGrpSpPr/>
          <p:nvPr/>
        </p:nvGrpSpPr>
        <p:grpSpPr>
          <a:xfrm>
            <a:off x="888840" y="1587600"/>
            <a:ext cx="8001000" cy="4127400"/>
            <a:chOff x="888840" y="1587600"/>
            <a:chExt cx="8001000" cy="4127400"/>
          </a:xfrm>
        </p:grpSpPr>
        <p:sp>
          <p:nvSpPr>
            <p:cNvPr id="133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YLabelGroup"/>
          <p:cNvGrpSpPr/>
          <p:nvPr/>
        </p:nvGrpSpPr>
        <p:grpSpPr>
          <a:xfrm>
            <a:off x="254160" y="1841400"/>
            <a:ext cx="761760" cy="3936960"/>
            <a:chOff x="254160" y="1841400"/>
            <a:chExt cx="761760" cy="3936960"/>
          </a:xfrm>
        </p:grpSpPr>
        <p:sp>
          <p:nvSpPr>
            <p:cNvPr id="133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3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3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34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341" name="PlaceHolder 1"/>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PlaceHolder 2"/>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3"/>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A968-49DB-49D5-AC6A-AC141F22C5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381" name="CorrectBarGroup"/>
          <p:cNvGrpSpPr/>
          <p:nvPr/>
        </p:nvGrpSpPr>
        <p:grpSpPr>
          <a:xfrm>
            <a:off x="1270080" y="3174840"/>
            <a:ext cx="2666880" cy="2540160"/>
            <a:chOff x="1270080" y="3174840"/>
            <a:chExt cx="2666880" cy="2540160"/>
          </a:xfrm>
        </p:grpSpPr>
        <p:sp>
          <p:nvSpPr>
            <p:cNvPr id="138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4" name="PercentLabelGroup"/>
          <p:cNvGrpSpPr/>
          <p:nvPr/>
        </p:nvGrpSpPr>
        <p:grpSpPr>
          <a:xfrm>
            <a:off x="1270080" y="1270080"/>
            <a:ext cx="7429320" cy="317520"/>
            <a:chOff x="1270080" y="1270080"/>
            <a:chExt cx="7429320" cy="317520"/>
          </a:xfrm>
        </p:grpSpPr>
        <p:sp>
          <p:nvSpPr>
            <p:cNvPr id="138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8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8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8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8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90" name="IncorrectBarGroup"/>
          <p:cNvGrpSpPr/>
          <p:nvPr/>
        </p:nvGrpSpPr>
        <p:grpSpPr>
          <a:xfrm>
            <a:off x="4444920" y="1905120"/>
            <a:ext cx="4254480" cy="3809880"/>
            <a:chOff x="4444920" y="1905120"/>
            <a:chExt cx="4254480" cy="3809880"/>
          </a:xfrm>
        </p:grpSpPr>
        <p:sp>
          <p:nvSpPr>
            <p:cNvPr id="139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XLabelGroup"/>
          <p:cNvGrpSpPr/>
          <p:nvPr/>
        </p:nvGrpSpPr>
        <p:grpSpPr>
          <a:xfrm>
            <a:off x="1270080" y="5842080"/>
            <a:ext cx="7429320" cy="317520"/>
            <a:chOff x="1270080" y="5842080"/>
            <a:chExt cx="7429320" cy="317520"/>
          </a:xfrm>
        </p:grpSpPr>
        <p:sp>
          <p:nvSpPr>
            <p:cNvPr id="139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9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9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9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9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400" name="AxisLineGroup"/>
          <p:cNvGrpSpPr/>
          <p:nvPr/>
        </p:nvGrpSpPr>
        <p:grpSpPr>
          <a:xfrm>
            <a:off x="888840" y="1587600"/>
            <a:ext cx="8001000" cy="4127400"/>
            <a:chOff x="888840" y="1587600"/>
            <a:chExt cx="8001000" cy="4127400"/>
          </a:xfrm>
        </p:grpSpPr>
        <p:sp>
          <p:nvSpPr>
            <p:cNvPr id="140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7" name="YLabelGroup"/>
          <p:cNvGrpSpPr/>
          <p:nvPr/>
        </p:nvGrpSpPr>
        <p:grpSpPr>
          <a:xfrm>
            <a:off x="254160" y="1841400"/>
            <a:ext cx="761760" cy="3936960"/>
            <a:chOff x="254160" y="1841400"/>
            <a:chExt cx="761760" cy="3936960"/>
          </a:xfrm>
        </p:grpSpPr>
        <p:sp>
          <p:nvSpPr>
            <p:cNvPr id="140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40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41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1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412" name="PlaceHolder 1"/>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PlaceHolder 2"/>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3"/>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53C5-C389-4066-BFA1-8C395E6020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6" name="CorrectBarGroup"/>
          <p:cNvGrpSpPr/>
          <p:nvPr/>
        </p:nvGrpSpPr>
        <p:grpSpPr>
          <a:xfrm>
            <a:off x="1270080" y="3174840"/>
            <a:ext cx="2666880" cy="2540160"/>
            <a:chOff x="1270080" y="3174840"/>
            <a:chExt cx="2666880" cy="2540160"/>
          </a:xfrm>
        </p:grpSpPr>
        <p:sp>
          <p:nvSpPr>
            <p:cNvPr id="8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PercentLabelGroup"/>
          <p:cNvGrpSpPr/>
          <p:nvPr/>
        </p:nvGrpSpPr>
        <p:grpSpPr>
          <a:xfrm>
            <a:off x="1270080" y="1270080"/>
            <a:ext cx="7429320" cy="317520"/>
            <a:chOff x="1270080" y="1270080"/>
            <a:chExt cx="7429320" cy="317520"/>
          </a:xfrm>
        </p:grpSpPr>
        <p:sp>
          <p:nvSpPr>
            <p:cNvPr id="9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5" name="IncorrectBarGroup"/>
          <p:cNvGrpSpPr/>
          <p:nvPr/>
        </p:nvGrpSpPr>
        <p:grpSpPr>
          <a:xfrm>
            <a:off x="4444920" y="1905120"/>
            <a:ext cx="4254480" cy="3809880"/>
            <a:chOff x="4444920" y="1905120"/>
            <a:chExt cx="4254480" cy="3809880"/>
          </a:xfrm>
        </p:grpSpPr>
        <p:sp>
          <p:nvSpPr>
            <p:cNvPr id="9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XLabelGroup"/>
          <p:cNvGrpSpPr/>
          <p:nvPr/>
        </p:nvGrpSpPr>
        <p:grpSpPr>
          <a:xfrm>
            <a:off x="1270080" y="5842080"/>
            <a:ext cx="7429320" cy="317520"/>
            <a:chOff x="1270080" y="5842080"/>
            <a:chExt cx="7429320" cy="317520"/>
          </a:xfrm>
        </p:grpSpPr>
        <p:sp>
          <p:nvSpPr>
            <p:cNvPr id="10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5" name="AxisLineGroup"/>
          <p:cNvGrpSpPr/>
          <p:nvPr/>
        </p:nvGrpSpPr>
        <p:grpSpPr>
          <a:xfrm>
            <a:off x="888840" y="1587600"/>
            <a:ext cx="8001000" cy="4127400"/>
            <a:chOff x="888840" y="1587600"/>
            <a:chExt cx="8001000" cy="4127400"/>
          </a:xfrm>
        </p:grpSpPr>
        <p:sp>
          <p:nvSpPr>
            <p:cNvPr id="10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YLabelGroup"/>
          <p:cNvGrpSpPr/>
          <p:nvPr/>
        </p:nvGrpSpPr>
        <p:grpSpPr>
          <a:xfrm>
            <a:off x="254160" y="1841400"/>
            <a:ext cx="761760" cy="3936960"/>
            <a:chOff x="254160" y="1841400"/>
            <a:chExt cx="761760" cy="3936960"/>
          </a:xfrm>
        </p:grpSpPr>
        <p:sp>
          <p:nvSpPr>
            <p:cNvPr id="11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15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15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15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15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15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15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16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161"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24E0-435D-4B28-A26D-38058D5406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0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0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0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0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0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20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0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0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E6AA-CCDC-44E4-8B06-712446FB6B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4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4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5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5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5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25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5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5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27D6-33F2-492D-8032-EF1C050154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9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9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9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9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9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0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0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02"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1FCD-F11F-4E9F-A6E0-13BDFB4546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34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34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34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34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34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4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4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49"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BEFD-7725-4291-B798-4011DE4391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38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39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39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39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39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9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9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96"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3230-B368-4B77-BA3C-7E150CF142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ienstleistungen.freepage.de/cgi-bin/feets/freepage_ext/41030x030A/rewrite/language/beetsStudy1818.jpg" TargetMode="External"/><Relationship Id="rId2" Type="http://schemas.openxmlformats.org/officeDocument/2006/relationships/image" Target="../media/image2.png"/><Relationship Id="rId3" Type="http://schemas.openxmlformats.org/officeDocument/2006/relationships/hyperlink" Target="http://library.thinkquest.org/C0110901/imagesAll/crossalp.jpg" TargetMode="External"/><Relationship Id="rId4" Type="http://schemas.openxmlformats.org/officeDocument/2006/relationships/image" Target="../media/image3.png"/><Relationship Id="rId5" Type="http://schemas.openxmlformats.org/officeDocument/2006/relationships/hyperlink" Target="http://www.imdb.com/gallery/mptv/1074/Mptv/1074/5408-0006.jpg.html?hint=tt0054215"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AMERICAN ROMANTICISM: INTRODUCTION</a:t>
            </a:r>
            <a:endParaRPr b="0" lang="en-US" sz="3200" spc="-1" strike="noStrike">
              <a:solidFill>
                <a:srgbClr val="000000"/>
              </a:solidFill>
              <a:latin typeface="Arial"/>
            </a:endParaRPr>
          </a:p>
        </p:txBody>
      </p:sp>
      <p:sp>
        <p:nvSpPr>
          <p:cNvPr id="1452" name="PlaceHolder 2"/>
          <p:cNvSpPr>
            <a:spLocks noGrp="1"/>
          </p:cNvSpPr>
          <p:nvPr>
            <p:ph type="subTitle"/>
          </p:nvPr>
        </p:nvSpPr>
        <p:spPr>
          <a:xfrm>
            <a:off x="1371600" y="1371240"/>
            <a:ext cx="6400800" cy="5181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3" name="Picture 4" descr="Asher Durand, Kindred Spirits (1848)"/>
          <p:cNvPicPr/>
          <p:nvPr/>
        </p:nvPicPr>
        <p:blipFill>
          <a:blip r:embed="rId1"/>
          <a:stretch/>
        </p:blipFill>
        <p:spPr>
          <a:xfrm>
            <a:off x="2286000" y="990720"/>
            <a:ext cx="438948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ntessential Romantic figures: the hero, the wanderer, and the geniu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journey to new lands (literally and figuratively), defy limitations, and overcome obstacle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estyle Script"/>
              </a:rPr>
              <a:t>SHREK</a:t>
            </a:r>
            <a:r>
              <a:rPr b="0" lang="en-US" sz="2400" spc="-1" strike="noStrike">
                <a:solidFill>
                  <a:srgbClr val="000000"/>
                </a:solidFill>
                <a:latin typeface="Garamond"/>
              </a:rPr>
              <a:t>, anybo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ero/wanderer fascination also came from the Romantic identification and exploration of everything Medieval (the Middle Ages were thought to be characterized by mystery and irrationality)</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Romantic motif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otic lands (Melville, especially his South Sea novels and </a:t>
            </a:r>
            <a:r>
              <a:rPr b="0" i="1" lang="en-US" sz="1600" spc="-1" strike="noStrike">
                <a:solidFill>
                  <a:srgbClr val="000000"/>
                </a:solidFill>
                <a:latin typeface="Arial"/>
              </a:rPr>
              <a:t>Moby Di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world of dreams (Coleridge, “Kubla Kh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k terrors of the psyche (E. A. Po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zzying heights—in both nature and human creativity (</a:t>
            </a:r>
            <a:r>
              <a:rPr b="0" i="1" lang="en-US" sz="1600" spc="-1" strike="noStrike">
                <a:solidFill>
                  <a:srgbClr val="000000"/>
                </a:solidFill>
                <a:latin typeface="Arial"/>
              </a:rPr>
              <a:t>Frankenstein…</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lime vistas in nature reflecting the divine and potentially terrifying powers o f the human mind, spirit, and soul</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7</a:t>
            </a:r>
            <a:endParaRPr b="0" lang="en-US" sz="4800" spc="-1" strike="noStrike">
              <a:solidFill>
                <a:srgbClr val="000000"/>
              </a:solidFill>
              <a:latin typeface="Arial"/>
            </a:endParaRPr>
          </a:p>
        </p:txBody>
      </p:sp>
      <p:sp>
        <p:nvSpPr>
          <p:cNvPr id="1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omantic, nature was a constant companion and teacher--both benign and tyrannic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beca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ge on which the human drama was play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xt in which man came to understand his place in the univers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forming agent which harmonized the individual soul with what the Transcendentalists would call the Over-So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8</a:t>
            </a:r>
            <a:endParaRPr b="0" lang="en-US" sz="48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all of Romantic literature, music, and art, Nature is a dynamic presence, a character who speaks in a language of symbols at once mysterious and anthropomorphic (i.e. speaking with a voice similar to human voice, i.e. sharing human qualities and characteristics, especially in personification of natural objects, phenomen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man to come into dialogue with the life-for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MAJOR FIGURES</a:t>
            </a:r>
            <a:endParaRPr b="0" lang="en-US" sz="4800" spc="-1" strike="noStrike">
              <a:solidFill>
                <a:srgbClr val="000000"/>
              </a:solidFill>
              <a:latin typeface="Arial"/>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Goethe (esp. </a:t>
            </a:r>
            <a:r>
              <a:rPr b="0" i="1" lang="en-US" sz="2800" spc="-1" strike="noStrike">
                <a:solidFill>
                  <a:srgbClr val="000000"/>
                </a:solidFill>
                <a:latin typeface="Arial"/>
              </a:rPr>
              <a:t>The Sorrows of Young Werther</a:t>
            </a:r>
            <a:r>
              <a:rPr b="0" lang="en-US" sz="2800" spc="-1" strike="noStrike">
                <a:solidFill>
                  <a:srgbClr val="000000"/>
                </a:solidFill>
                <a:latin typeface="Arial"/>
              </a:rPr>
              <a:t> and </a:t>
            </a:r>
            <a:r>
              <a:rPr b="0" i="1" lang="en-US" sz="2800" spc="-1" strike="noStrike">
                <a:solidFill>
                  <a:srgbClr val="000000"/>
                </a:solidFill>
                <a:latin typeface="Arial"/>
              </a:rPr>
              <a:t>Faust</a:t>
            </a:r>
            <a:r>
              <a:rPr b="0" lang="en-US" sz="2800" spc="-1" strike="noStrike">
                <a:solidFill>
                  <a:srgbClr val="000000"/>
                </a:solidFill>
                <a:latin typeface="Arial"/>
              </a:rPr>
              <a:t>), Schiller (esp. </a:t>
            </a:r>
            <a:r>
              <a:rPr b="0" i="1" lang="en-US" sz="2800" spc="-1" strike="noStrike">
                <a:solidFill>
                  <a:srgbClr val="000000"/>
                </a:solidFill>
                <a:latin typeface="Arial"/>
              </a:rPr>
              <a:t>William Tell</a:t>
            </a:r>
            <a:r>
              <a:rPr b="0" lang="en-US" sz="2800" spc="-1" strike="noStrike">
                <a:solidFill>
                  <a:srgbClr val="000000"/>
                </a:solidFill>
                <a:latin typeface="Arial"/>
              </a:rPr>
              <a:t>); Novalis, Eichendorff, Schlegel, and the Grimm br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ers: Caspar David Friedri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rs: Beethoven, Schubert (songs), Mendelssohn (wedding march from </a:t>
            </a:r>
            <a:r>
              <a:rPr b="0" i="1" lang="en-US" sz="2800" spc="-1" strike="noStrike">
                <a:solidFill>
                  <a:srgbClr val="000000"/>
                </a:solidFill>
                <a:latin typeface="Arial"/>
              </a:rPr>
              <a:t>Midsummer Night’s Dream</a:t>
            </a:r>
            <a:r>
              <a:rPr b="0" lang="en-US" sz="2800" spc="-1" strike="noStrike">
                <a:solidFill>
                  <a:srgbClr val="000000"/>
                </a:solidFill>
                <a:latin typeface="Arial"/>
              </a:rPr>
              <a:t>), Richard Wag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MAJOR FIGURES</a:t>
            </a:r>
            <a:endParaRPr b="0" lang="en-US" sz="4800" spc="-1" strike="noStrike">
              <a:solidFill>
                <a:srgbClr val="000000"/>
              </a:solidFill>
              <a:latin typeface="Arial"/>
            </a:endParaRPr>
          </a:p>
        </p:txBody>
      </p:sp>
      <p:sp>
        <p:nvSpPr>
          <p:cNvPr id="14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Robert Burns, William Blake, William Wordsworth, Sir Walter Scott, Samuel Taylor Coleridge, Percy Bysshe Shelley, Mary Shell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ers:  William Blake, John Constable, Joseph Turn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a:t>
            </a: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associated with the terms “American Renaissance” and “Transcendental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s: William Cullen Bryant, Henry Wadsworth Longfellow, John Greenleaf Whittier, Walt Whitman, Emily Dickin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 Writers: Washington Irving, James Fenimore Cooper, Nathaniel Hawthorne, Edgar Allan Poe, Ralph Waldo Emerson, Henry David Thoreau, Harriet Beecher Stowe, Herman Melvil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a:t>
            </a: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stinguishes American Romantic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AR influenced and shaped by the political developments of the early national and ante-bellum period (circa 1820-186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term “American Renaissance” (a later coinage by literary critic F. O. Matthiesen) imply about the distinctiveness of American Romanticism and its relationship to European Romantic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y connection between AR and an emerging cultural identity in the United St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id the geographic and social landscapes of the United States influence A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ier, the wilderness, expans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ry, racism, sectionalism, class conflict, industrialization, gender inequality, Indian removal,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ICAL ROMANTICISM?</a:t>
            </a:r>
            <a:endParaRPr b="0" lang="en-US" sz="4400" spc="-1" strike="noStrike">
              <a:solidFill>
                <a:srgbClr val="000000"/>
              </a:solidFill>
              <a:latin typeface="Arial"/>
            </a:endParaRPr>
          </a:p>
        </p:txBody>
      </p:sp>
      <p:sp>
        <p:nvSpPr>
          <p:cNvPr id="1489"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 what degree can artists/authors both exemplify/represent </a:t>
            </a:r>
            <a:r>
              <a:rPr b="0" i="1" lang="en-US" sz="2000" spc="-1" strike="noStrike">
                <a:solidFill>
                  <a:srgbClr val="000000"/>
                </a:solidFill>
                <a:latin typeface="Arial"/>
              </a:rPr>
              <a:t>and</a:t>
            </a:r>
            <a:r>
              <a:rPr b="0" lang="en-US" sz="2000" spc="-1" strike="noStrike">
                <a:solidFill>
                  <a:srgbClr val="000000"/>
                </a:solidFill>
                <a:latin typeface="Arial"/>
              </a:rPr>
              <a:t> stand outside of or critique a culture at the same tim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ow, or to what degree do the writers we are encountering sanction/affirm </a:t>
            </a:r>
            <a:r>
              <a:rPr b="0" i="1" lang="en-US" sz="2000" spc="-1" strike="noStrike">
                <a:solidFill>
                  <a:srgbClr val="000000"/>
                </a:solidFill>
                <a:latin typeface="Arial"/>
              </a:rPr>
              <a:t>and/or</a:t>
            </a:r>
            <a:r>
              <a:rPr b="0" lang="en-US" sz="2000" spc="-1" strike="noStrike">
                <a:solidFill>
                  <a:srgbClr val="000000"/>
                </a:solidFill>
                <a:latin typeface="Arial"/>
              </a:rPr>
              <a:t> challenge, critique, or even subvert the spirit of the 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appreciate radical departures from or challenges to perceived wisdom, standard ways of thinking, political culture, power structures, tradition, and conven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degree do these challenges still matter to us and possibly even offer useful correctives to our own mode of thinking and living?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where, how, and to what degree was the “Romantic challenge” actually part of the “machin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can the “establishment” ever critique itself?  (E.g. the problem of the Transcendentalists’ obvious male bias, or the Emerson-Thoreau t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0" lang="en-US" sz="3200" spc="-1" strike="noStrike">
                <a:solidFill>
                  <a:srgbClr val="000000"/>
                </a:solidFill>
                <a:latin typeface="Arial"/>
              </a:rPr>
              <a:t>he first coherent school of American art, the Hudson River painters, helped to shape the mythos of the American landsc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Cole (1801-184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r B. Durand (1796-188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erick Church (1826-19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Bierstadt (1830-19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171840" y="274320"/>
            <a:ext cx="2514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Cole, </a:t>
            </a:r>
            <a:br>
              <a:rPr sz="3600"/>
            </a:br>
            <a:r>
              <a:rPr b="1" lang="en-US" sz="3600" spc="-1" strike="noStrike">
                <a:solidFill>
                  <a:srgbClr val="000000"/>
                </a:solidFill>
                <a:latin typeface="Arial"/>
              </a:rPr>
              <a:t>“The Falls of Kaaterskill” (1826)</a:t>
            </a:r>
            <a:endParaRPr b="0" lang="en-US" sz="3600" spc="-1" strike="noStrike">
              <a:solidFill>
                <a:srgbClr val="000000"/>
              </a:solidFill>
              <a:latin typeface="Arial"/>
            </a:endParaRPr>
          </a:p>
        </p:txBody>
      </p:sp>
      <p:sp>
        <p:nvSpPr>
          <p:cNvPr id="1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494" name="Picture 4" descr="Thomas Cole, The Falls of Kaaterskill (1826)"/>
          <p:cNvPicPr/>
          <p:nvPr/>
        </p:nvPicPr>
        <p:blipFill>
          <a:blip r:embed="rId1"/>
          <a:stretch/>
        </p:blipFill>
        <p:spPr>
          <a:xfrm>
            <a:off x="304920" y="347760"/>
            <a:ext cx="5564160" cy="65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OMANTICISM: THE MOVEMENT</a:t>
            </a:r>
            <a:endParaRPr b="0" lang="en-US" sz="4400" spc="-1" strike="noStrike">
              <a:solidFill>
                <a:srgbClr val="000000"/>
              </a:solidFill>
              <a:latin typeface="Arial"/>
            </a:endParaRPr>
          </a:p>
        </p:txBody>
      </p:sp>
      <p:sp>
        <p:nvSpPr>
          <p:cNvPr id="1455" name="PlaceHolder 2"/>
          <p:cNvSpPr>
            <a:spLocks noGrp="1"/>
          </p:cNvSpPr>
          <p:nvPr>
            <p:ph/>
          </p:nvPr>
        </p:nvSpPr>
        <p:spPr>
          <a:xfrm>
            <a:off x="457200" y="914040"/>
            <a:ext cx="8229600" cy="52117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ominated cultural thought from the last decade of the 18th century well into the first decades of the 20th century </a:t>
            </a:r>
            <a:endParaRPr b="0" lang="en-US" sz="2800" spc="-1" strike="noStrike">
              <a:solidFill>
                <a:srgbClr val="000000"/>
              </a:solidFill>
              <a:latin typeface="Arial"/>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rst appearance in Germany in the 1770s (“Sturm und Drang”); flowering in England in the 1790s; importation to America from the 1820s onward</a:t>
            </a:r>
            <a:endParaRPr b="0" lang="en-US" sz="3200" spc="-1" strike="noStrike">
              <a:solidFill>
                <a:srgbClr val="000000"/>
              </a:solidFill>
              <a:latin typeface="Arial"/>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o a large degree, Romanticism was a reaction against the Enlightenment or Age of Reason, especially its emphasis on formal propriety, classical style, and decorum</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mas Cole, The Oxbow (View from Mount Holyoke, Northampton, Massachusetts, after a Thunderstorm, 1836)</a:t>
            </a:r>
            <a:endParaRPr b="0" lang="en-US" sz="2800" spc="-1" strike="noStrike">
              <a:solidFill>
                <a:srgbClr val="000000"/>
              </a:solidFill>
              <a:latin typeface="Arial"/>
            </a:endParaRPr>
          </a:p>
        </p:txBody>
      </p:sp>
      <p:sp>
        <p:nvSpPr>
          <p:cNvPr id="1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7" name="Picture 4" descr="Thomas Cole, The Oxbow (View from Mount Holyoke, Northampton, Massachusetts, after a Thunderstorm, 1836)"/>
          <p:cNvPicPr/>
          <p:nvPr/>
        </p:nvPicPr>
        <p:blipFill>
          <a:blip r:embed="rId1"/>
          <a:stretch/>
        </p:blipFill>
        <p:spPr>
          <a:xfrm>
            <a:off x="685800" y="1519200"/>
            <a:ext cx="7829640" cy="53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5638320" y="304560"/>
            <a:ext cx="304812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her Durand, “Kindred Spirits” (1848)</a:t>
            </a:r>
            <a:endParaRPr b="0" lang="en-US" sz="3600" spc="-1" strike="noStrike">
              <a:solidFill>
                <a:srgbClr val="000000"/>
              </a:solidFill>
              <a:latin typeface="Arial"/>
            </a:endParaRPr>
          </a:p>
        </p:txBody>
      </p:sp>
      <p:sp>
        <p:nvSpPr>
          <p:cNvPr id="1499"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0" name="Picture 4" descr="Asher Durand, Kindred Spirits (1848)"/>
          <p:cNvPicPr/>
          <p:nvPr/>
        </p:nvPicPr>
        <p:blipFill>
          <a:blip r:embed="rId1"/>
          <a:stretch/>
        </p:blipFill>
        <p:spPr>
          <a:xfrm>
            <a:off x="380880" y="152280"/>
            <a:ext cx="5070600" cy="633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her Durand, “Kindred Spirits” (1848)</a:t>
            </a:r>
            <a:endParaRPr b="0" lang="en-US" sz="3600" spc="-1" strike="noStrike">
              <a:solidFill>
                <a:srgbClr val="000000"/>
              </a:solidFill>
              <a:latin typeface="Arial"/>
            </a:endParaRPr>
          </a:p>
        </p:txBody>
      </p:sp>
      <p:sp>
        <p:nvSpPr>
          <p:cNvPr id="1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t Durand depicts himself, together with Cole, on a rocky promontory in serene contemplation of the scene before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reground stands one of the school's famous symbols--a broken tree stump-- what Cole called a "memento mo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a reminder that life is fragile and impermanent; only Nature and the Divine within the Human Soul are eter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as the human beings are in this composition, they are nevertheless elevated by the grandeur of the landscape in which they are 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5257440" y="457200"/>
            <a:ext cx="34290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eric Edwin Church, </a:t>
            </a:r>
            <a:br>
              <a:rPr sz="3600"/>
            </a:br>
            <a:r>
              <a:rPr b="0" lang="en-US" sz="3600" spc="-1" strike="noStrike">
                <a:solidFill>
                  <a:srgbClr val="000000"/>
                </a:solidFill>
                <a:latin typeface="Arial"/>
              </a:rPr>
              <a:t>“The Natural Bridge” (1852)</a:t>
            </a:r>
            <a:endParaRPr b="0" lang="en-US" sz="3600" spc="-1" strike="noStrike">
              <a:solidFill>
                <a:srgbClr val="000000"/>
              </a:solidFill>
              <a:latin typeface="Arial"/>
            </a:endParaRPr>
          </a:p>
        </p:txBody>
      </p:sp>
      <p:sp>
        <p:nvSpPr>
          <p:cNvPr id="1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5" name="Picture 4" descr="Frederic Edwin Church, The Natural Bridge (1852)"/>
          <p:cNvPicPr/>
          <p:nvPr/>
        </p:nvPicPr>
        <p:blipFill>
          <a:blip r:embed="rId1"/>
          <a:stretch/>
        </p:blipFill>
        <p:spPr>
          <a:xfrm>
            <a:off x="304920" y="380880"/>
            <a:ext cx="4711680" cy="615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fred Bierstadt, “Emigrants Crossing the Plains” (1867)</a:t>
            </a:r>
            <a:endParaRPr b="0" lang="en-US" sz="3600" spc="-1" strike="noStrike">
              <a:solidFill>
                <a:srgbClr val="000000"/>
              </a:solidFill>
              <a:latin typeface="Arial"/>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8" name="Picture 4" descr="Alfred Bierstadt, Emigrants Crossing the Plains (1867)"/>
          <p:cNvPicPr/>
          <p:nvPr/>
        </p:nvPicPr>
        <p:blipFill>
          <a:blip r:embed="rId1"/>
          <a:stretch/>
        </p:blipFill>
        <p:spPr>
          <a:xfrm>
            <a:off x="838080" y="1600200"/>
            <a:ext cx="7467840" cy="51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fred Bierstadt, “Looking Up the Yosemite Valley” (ca. 1865-67)</a:t>
            </a:r>
            <a:endParaRPr b="0" lang="en-US" sz="4000" spc="-1" strike="noStrike">
              <a:solidFill>
                <a:srgbClr val="000000"/>
              </a:solidFill>
              <a:latin typeface="Arial"/>
            </a:endParaRPr>
          </a:p>
        </p:txBody>
      </p:sp>
      <p:sp>
        <p:nvSpPr>
          <p:cNvPr id="1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1" name="Picture 4" descr="Alfred Bierstadt, Looking Up the Yosemite Valley (ca 1865-67)"/>
          <p:cNvPicPr/>
          <p:nvPr/>
        </p:nvPicPr>
        <p:blipFill>
          <a:blip r:embed="rId1"/>
          <a:stretch/>
        </p:blipFill>
        <p:spPr>
          <a:xfrm>
            <a:off x="762120" y="1905120"/>
            <a:ext cx="7624800" cy="468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influenced by European Romantic painting, they tried to define a distinct vision for American ar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with the grand views of the Hudson Valley and surrounding Catskill Mountains in N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elebrated the vast resources and magnificent landscapes of the new nation (“Nature’s N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icting a wilderness in which man is small in comparison but still formed an essential element in a divine harmon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omas Cole maintained, if nature were untouched by the hand of man--as was much of the primeval American landscape in the early 19th century--then man could become more easily acquainted with the hand of G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 of Transcendentalists on Hudson River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son had written in his 1841 essay “Thoughts on Art” that painting should become a vehicle through which the universal mind could reach the mind of manki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Hudson River painters believed art to be an agent of moral and spiritual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 THE POETRY</a:t>
            </a:r>
            <a:endParaRPr b="0" lang="en-US" sz="4400" spc="-1" strike="noStrike">
              <a:solidFill>
                <a:srgbClr val="000000"/>
              </a:solidFill>
              <a:latin typeface="Arial"/>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Cullen Bryant, “To a Waterfowl” and “The Prai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dia Howard Huntley Sigourney, “Niaga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Wadsworth Longfellow, “A Psalm of Life” and “The Fire of Drift-w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2</a:t>
            </a:r>
            <a:endParaRPr b="0" lang="en-US" sz="4800" spc="-1" strike="noStrike">
              <a:solidFill>
                <a:srgbClr val="000000"/>
              </a:solidFill>
              <a:latin typeface="Arial"/>
            </a:endParaRPr>
          </a:p>
        </p:txBody>
      </p:sp>
      <p:sp>
        <p:nvSpPr>
          <p:cNvPr id="14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lightenment faith in a perfectible material and spiritual universe through the power of human reason was shaken by the revolutions that ended the century (The American Revolution, The French Revolution, and the Napoleonic Wars—some Romantic artists actually—for a while—exalted Napoleon as the ultimate Romantic hero—e.g., Beethoven in his “Eroica Symphony,” which later was used in Hitchcock’s </a:t>
            </a:r>
            <a:r>
              <a:rPr b="0" i="1" lang="en-US" sz="2000" spc="-1" strike="noStrike">
                <a:solidFill>
                  <a:srgbClr val="000000"/>
                </a:solidFill>
                <a:latin typeface="Arial"/>
              </a:rPr>
              <a:t>Psych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8" name=""/>
          <p:cNvGraphicFramePr/>
          <p:nvPr/>
        </p:nvGraphicFramePr>
        <p:xfrm>
          <a:off x="4572000" y="1600200"/>
          <a:ext cx="4114800" cy="4525920"/>
        </p:xfrm>
        <a:graphic>
          <a:graphicData uri="http://schemas.openxmlformats.org/drawingml/2006/table">
            <a:tbl>
              <a:tblPr/>
              <a:tblGrid>
                <a:gridCol w="1422360"/>
                <a:gridCol w="1346400"/>
                <a:gridCol w="134604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459" name="Picture 17" descr="beetsStudy1818A">
            <a:hlinkClick r:id="rId1"/>
          </p:cNvPr>
          <p:cNvPicPr/>
          <p:nvPr/>
        </p:nvPicPr>
        <p:blipFill>
          <a:blip r:embed="rId2"/>
          <a:stretch/>
        </p:blipFill>
        <p:spPr>
          <a:xfrm>
            <a:off x="6019920" y="2666880"/>
            <a:ext cx="1428480" cy="2133720"/>
          </a:xfrm>
          <a:prstGeom prst="rect">
            <a:avLst/>
          </a:prstGeom>
          <a:ln w="0">
            <a:noFill/>
          </a:ln>
        </p:spPr>
      </p:pic>
      <p:pic>
        <p:nvPicPr>
          <p:cNvPr id="1460" name="Picture 20" descr="crossalp">
            <a:hlinkClick r:id="rId3"/>
          </p:cNvPr>
          <p:cNvPicPr/>
          <p:nvPr/>
        </p:nvPicPr>
        <p:blipFill>
          <a:blip r:embed="rId4"/>
          <a:stretch/>
        </p:blipFill>
        <p:spPr>
          <a:xfrm>
            <a:off x="4495680" y="1371600"/>
            <a:ext cx="1584360" cy="1828800"/>
          </a:xfrm>
          <a:prstGeom prst="rect">
            <a:avLst/>
          </a:prstGeom>
          <a:ln w="0">
            <a:noFill/>
          </a:ln>
        </p:spPr>
      </p:pic>
      <p:pic>
        <p:nvPicPr>
          <p:cNvPr id="1461" name="Picture 22" descr="th-5408-0006">
            <a:hlinkClick r:id="rId5"/>
          </p:cNvPr>
          <p:cNvPicPr/>
          <p:nvPr/>
        </p:nvPicPr>
        <p:blipFill>
          <a:blip r:embed="rId6"/>
          <a:stretch/>
        </p:blipFill>
        <p:spPr>
          <a:xfrm>
            <a:off x="7315200" y="4572000"/>
            <a:ext cx="1349280" cy="16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3</a:t>
            </a:r>
            <a:endParaRPr b="0" lang="en-US" sz="4800" spc="-1" strike="noStrike">
              <a:solidFill>
                <a:srgbClr val="000000"/>
              </a:solidFill>
              <a:latin typeface="Arial"/>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What comes to mind or what do you associate with the term “Romantic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a:t>
            </a:r>
            <a:endParaRPr b="0" lang="en-US" sz="4800" spc="-1" strike="noStrike">
              <a:solidFill>
                <a:srgbClr val="000000"/>
              </a:solidFill>
              <a:latin typeface="Arial"/>
            </a:endParaRPr>
          </a:p>
        </p:txBody>
      </p:sp>
      <p:sp>
        <p:nvSpPr>
          <p:cNvPr id="1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we usually associate a quaint or exaggerated effusion of emotion with Romanticism (hence, the shift in meaning of the word “Romantic” to everything relating love…), the Romantic age brought about concepts of the individual and his/her relationship to the world/society that we still largely subscribe to, even champion to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4</a:t>
            </a:r>
            <a:endParaRPr b="0" lang="en-US" sz="4800" spc="-1" strike="noStrike">
              <a:solidFill>
                <a:srgbClr val="000000"/>
              </a:solidFill>
              <a:latin typeface="Arial"/>
            </a:endParaRPr>
          </a:p>
        </p:txBody>
      </p:sp>
      <p:sp>
        <p:nvSpPr>
          <p:cNvPr id="14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ticism is the cult of the individual--the cultural and psychological birth of the I--the Sel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f in an inner spark of divinity that links one human being to another and all human beings to the larger “Tru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etry, visual art, and music, artists became increasingly preoccupied with articulating the personal experience that becomes, in turn, a representative o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 becomes the source of artistic vision/creativity (during the neo-classical age, imagination was linked to “fancy,” which implied the fantastic, fictive, and even 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5</a:t>
            </a:r>
            <a:endParaRPr b="0" lang="en-US" sz="4800" spc="-1" strike="noStrike">
              <a:solidFill>
                <a:srgbClr val="000000"/>
              </a:solidFill>
              <a:latin typeface="Arial"/>
            </a:endParaRPr>
          </a:p>
        </p:txBody>
      </p:sp>
      <p:sp>
        <p:nvSpPr>
          <p:cNvPr id="1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especially, the poet): takes on quasi-religious status not only as prophet and moral lead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t/artist as a divinely inspired vehicle through which Nature and the common man find their voic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 See William Wordsworth, “Preface” to </a:t>
            </a:r>
            <a:r>
              <a:rPr b="0" i="1" lang="en-US" sz="3200" spc="-1" strike="noStrike">
                <a:solidFill>
                  <a:srgbClr val="000000"/>
                </a:solidFill>
                <a:latin typeface="Arial"/>
              </a:rPr>
              <a:t>Lyrical Ballad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 as </a:t>
            </a:r>
            <a:r>
              <a:rPr b="0" i="1" lang="en-US" sz="2800" spc="-1" strike="noStrike">
                <a:solidFill>
                  <a:srgbClr val="000000"/>
                </a:solidFill>
                <a:latin typeface="Arial"/>
              </a:rPr>
              <a:t>Proph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for the common man: came from both the democratic changes of the age of Revolution, as well as an interest in folk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 the search to preserve the stories, songs, legends, and verse of the common people came from a nationalistic impuls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n Germany, the Grimm brothers collected the fairy tales of their region and country while assembling a comprehensive dictionary of the German language (the German equivalent of Webster’s in the 19</a:t>
            </a:r>
            <a:r>
              <a:rPr b="0" lang="en-US" sz="2000" spc="-1" strike="noStrike" baseline="30000">
                <a:solidFill>
                  <a:srgbClr val="000000"/>
                </a:solidFill>
                <a:latin typeface="Arial"/>
              </a:rPr>
              <a:t>th</a:t>
            </a:r>
            <a:r>
              <a:rPr b="0" lang="en-US" sz="2000" spc="-1" strike="noStrike">
                <a:solidFill>
                  <a:srgbClr val="000000"/>
                </a:solidFill>
                <a:latin typeface="Arial"/>
              </a:rPr>
              <a:t> centu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Folk Movement also produced an international language of human commonality, at whose center stood the images of home and the hear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 changes: individuality translated into the revolution of </a:t>
            </a:r>
            <a:r>
              <a:rPr b="0" i="1" lang="en-US" sz="3200" spc="-1" strike="noStrike">
                <a:solidFill>
                  <a:srgbClr val="000000"/>
                </a:solidFill>
                <a:latin typeface="Arial"/>
              </a:rPr>
              <a:t>feeling</a:t>
            </a:r>
            <a:r>
              <a:rPr b="0" lang="en-US" sz="3200" spc="-1" strike="noStrike">
                <a:solidFill>
                  <a:srgbClr val="000000"/>
                </a:solidFill>
                <a:latin typeface="Arial"/>
              </a:rPr>
              <a:t> against </a:t>
            </a:r>
            <a:r>
              <a:rPr b="0" i="1" lang="en-US" sz="3200" spc="-1" strike="noStrike">
                <a:solidFill>
                  <a:srgbClr val="000000"/>
                </a:solidFill>
                <a:latin typeface="Arial"/>
              </a:rPr>
              <a:t>for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s, painters, and musicians no longer trying to make their expression fit conventional forms, but carving out new forms to capture their feelings and thou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the language of the </a:t>
            </a:r>
            <a:r>
              <a:rPr b="0" i="1" lang="en-US" sz="3200" spc="-1" strike="noStrike">
                <a:solidFill>
                  <a:srgbClr val="000000"/>
                </a:solidFill>
                <a:latin typeface="Arial"/>
              </a:rPr>
              <a:t>So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05:37:29Z</dcterms:created>
  <dc:creator>checkout</dc:creator>
  <dc:description/>
  <dc:language>en-US</dc:language>
  <cp:lastModifiedBy>Beth Ragland</cp:lastModifiedBy>
  <dcterms:modified xsi:type="dcterms:W3CDTF">2011-10-31T10:41:44Z</dcterms:modified>
  <cp:revision>54</cp:revision>
  <dc:subject/>
  <dc:title>AMERICAN ROMANTICISM: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